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70B-9A9B-4C85-A702-8A257E26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7F9-0A22-44AA-AC4F-89160F9D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B72-4AFB-476D-B20C-83C7EB72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DD2-989B-4A20-9466-A6EEAAC4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E2F-C0DD-4974-B799-45E67478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3AB5-527C-4D79-846D-062A61DA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85D2-315F-49BC-A29E-73DDD711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B354-DE7A-43E1-9C6C-224B62BD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2F38-47C1-4D09-8888-523F7761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87C4-17B8-487F-986D-1FAEF4BD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3539-BF0A-4CF1-B06B-FE40780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DF2-AC6A-4B0B-A70B-476F4A20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B8FF-E14E-4B85-A029-F4F329E0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8008-9A21-4F0F-8823-F3DBAF2B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9388-A324-45EE-87B1-6DF314BC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2BAC-F9B1-49F2-9DB6-932C78C7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57FA-8076-4F4B-9EDB-8AE39600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968-5281-4224-82DD-6DCDEC61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6C9-9594-409A-8035-8971CFF3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405-7B92-4C8D-95A4-5366A47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091-FFDB-464B-9E90-1560ABD3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208-A049-431D-876F-1B850404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430-C2F7-450E-835E-1044E6C1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2EC-573E-43E2-BAAC-C693E4E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DB6F-6E65-474F-9E0F-23806B3FCBF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DFDE-20A7-4DA4-B693-83DC81C0D1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REA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CEA INTERNAL ASSESS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1 Creating a Character 9005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 cred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imple sentences speed up the pace of a story and are generally used to create tension, imply action or get across an important poi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omplex Sent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ong or complex sentences often slow down the pace of a story. Complex sentences usually contain crucial detail or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haron screamed.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She jumped from the plane 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Comic Sans MS"/>
              </a:rPr>
              <a:t>and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began plummeting to the ground below waiting nervously for her parachute to open.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earth drew closer with each passing second. Tick. Tick. Tick. Sharon began to get nervous. Whooosh. Suddenly the parachute exploded from its case.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Relief washed over Sharon 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Comic Sans MS"/>
              </a:rPr>
              <a:t>as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she glided to the landing strip ahea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omplete the exercises on your worksheet relating to the follow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anguage fe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e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entence 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Your Tas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his assessment you will develop a descriptive piece of writing in which you focus on a charact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t should be of at least 300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t can be based on either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‘real life’ per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ictional charac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mixture of both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xample a real life pers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ith fictional elements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The purpos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purpose of this piece of writing is to effectively convey your characters appearance, personality and attributes by “showing” rather than tel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say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“her hair was brow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ay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“her hair was the colour of ripe chestnuts, flecked with shades of gold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How do I do th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most successful writers make use of language techniques to make their writing interesting and effec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anguage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ere are some common language techniques you should use in your writing to make it interesting and descriptiv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xtended 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erson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motive Words            ( -/+ connota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What NOT to do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696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ambling-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best way to avoid rambling is to write a plan before you start your piece of writ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pending too much time on the opening and not developing the en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verwriting – using too many language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tracting errors. Proofread carefully and ensure you spend time editing your draf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ixed tenses – (past/presen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For Example: Marie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up a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walked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to the bus. She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take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her bag from her shoulder a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dropping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it on the grou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igh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heavily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epetition of simple words and using excess conjunctions –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For Example: and, but, 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sing Sentences Effectiv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nother way to ensure your writing is effective is to vary your use of sentence typ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tains one is idea and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kes sense on its 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mple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de up of two or more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 sentences joined by a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jun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sing Sentences Effectiv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Using a variety of sentence types makes writing much more interesting. Your choice of sentence can create tension, give detail or imply a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33:02Z</dcterms:created>
  <dc:creator>jgillaly</dc:creator>
  <dc:description/>
  <dc:language>en-US</dc:language>
  <cp:lastModifiedBy>jgillaly</cp:lastModifiedBy>
  <dcterms:modified xsi:type="dcterms:W3CDTF">2008-08-04T23:20:18Z</dcterms:modified>
  <cp:revision>3</cp:revision>
  <dc:subject/>
  <dc:title>CREATIVE WRITING</dc:title>
</cp:coreProperties>
</file>