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EC50-3975-49D0-9204-15E18034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66A-DB0A-48C6-9271-A031AF0C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C8A0-C9E6-4D14-B459-6F412F7D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B7B4-C4C4-4883-9C35-E2D9BAA1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119A-B754-40BB-AD01-1EC0428F5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E83A-0130-4CCA-9572-807DF24E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4B99-C3CB-4BAD-B891-A11B9E68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FAC2-AB72-435C-BFC7-9F8F1CF6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6F9F-DCB1-4C04-8DCA-4D12F926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2A04-BFCE-4F11-A87B-530C2DC9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E2C6-2A6F-4FA0-91A9-FD1EDDC1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6CE6-4923-403A-92FF-2B4E0EC8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7516-8C5D-43A6-89C6-EB7A810B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F5D6-B29B-4742-9D5E-A275980B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08DA-97B0-434A-BF3D-EB5EF37F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7F5D-364A-4779-B060-654E68BD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78CB-8D93-424D-AF85-A43F60F6A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8991-B908-4E98-964C-A02BC2BF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9B26-4258-4A69-A185-D7A6411B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C807-6352-4163-AF02-B304182E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2A0C-8A33-4050-A735-6AB5ACAD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DD40-6C28-4FDE-9884-4025EE8B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32FC-F055-4DE4-B0E3-C4CC54C6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9769-F8C8-4BC5-B199-9886C249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7A3B-9F58-478D-9274-C57E7E5E4FB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FB7F-C11E-4BEB-B274-225229ACA93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CREATIVE 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440"/>
            <a:ext cx="60325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NCEA INTERNAL ASSESS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1.1 Creating a Character 9005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3 cred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Simple Sent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Simple sentences speed up the pace of a story and are generally used to create tension, imply action or get across an important poi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Complex Sent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ong or complex sentences often slow down the pace of a story. Complex sentences usually contain crucial detail or inform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haron screamed.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She jumped from the plane </a:t>
            </a:r>
            <a:r>
              <a:rPr b="0" lang="en-NZ" sz="2800" spc="-1" strike="noStrike" u="sng">
                <a:solidFill>
                  <a:srgbClr val="ff0000"/>
                </a:solidFill>
                <a:uFillTx/>
                <a:latin typeface="Comic Sans MS"/>
              </a:rPr>
              <a:t>and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began plummeting to the ground below waiting nervously for her parachute to open.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he earth drew closer with each passing second. Tick. Tick. Tick. Sharon began to get nervous. Whooosh. Suddenly the parachute exploded from its case.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Relief washed over Sharon </a:t>
            </a:r>
            <a:r>
              <a:rPr b="0" lang="en-NZ" sz="2800" spc="-1" strike="noStrike" u="sng">
                <a:solidFill>
                  <a:srgbClr val="ff0000"/>
                </a:solidFill>
                <a:uFillTx/>
                <a:latin typeface="Comic Sans MS"/>
              </a:rPr>
              <a:t>as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 she glided to the landing strip ahea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omplete the exercises on your worksheet relating to the follow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anguage featu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en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Sentence typ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Your Task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 this assessment you will develop a descriptive piece of writing in which you focus on a charact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t should be of at least 300 wo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t can be based on either: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 ‘real life’ pers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Fictional charac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 mixture of both –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For example a real life perso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ith fictional elements add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The purpose…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he purpose of this piece of writing is to effectively convey your characters appearance, personality and attributes by “showing” rather than tell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Don’t say 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“her hair was brown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Say 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“her hair was the colour of ripe chestnuts, flecked with shades of gold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How do I do th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he most successful writers make use of language techniques to make their writing interesting and effectiv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Language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Here are some common language techniques you should use in your writing to make it interesting and descriptiv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djec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im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Metaph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Extended Metaph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Person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nomatopoe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llite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sson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Emotive Words            ( -/+ connotation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What NOT to do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7696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Rambling-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best way to avoid rambling is to write a plan before you start your piece of writ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pending too much time on the opening and not developing the end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Overwriting – using too many language techniq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Distracting errors. Proofread carefully and ensure you spend time editing your draf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ixed tenses – (past/presen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For Example: Marie </a:t>
            </a:r>
            <a:r>
              <a:rPr b="0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stands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 up and </a:t>
            </a:r>
            <a:r>
              <a:rPr b="0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walked 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to the bus. She </a:t>
            </a:r>
            <a:r>
              <a:rPr b="0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takes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 her bag from her shoulder and </a:t>
            </a:r>
            <a:r>
              <a:rPr b="0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dropping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 it on the ground </a:t>
            </a:r>
            <a:r>
              <a:rPr b="0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sighs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 heavily.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Repetition of simple words and using excess conjunctions – 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For Example: and, but, th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Using Sentences Effective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nother way to ensure your writing is effective is to vary your use of sentence typ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impl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ontains one is idea and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makes sense on its ow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omplex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Made up of two or more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imple sentences joined by a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onjunc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Using Sentences Effective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Using a variety of sentence types makes writing much more interesting. Your choice of sentence can create tension, give detail or imply a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3T21:33:02Z</dcterms:created>
  <dc:creator>jgillaly</dc:creator>
  <dc:description/>
  <dc:language>en-US</dc:language>
  <cp:lastModifiedBy>jgillaly</cp:lastModifiedBy>
  <dcterms:modified xsi:type="dcterms:W3CDTF">2008-08-04T23:20:18Z</dcterms:modified>
  <cp:revision>3</cp:revision>
  <dc:subject/>
  <dc:title>CREATIVE WRITING</dc:title>
</cp:coreProperties>
</file>