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20D-9E5F-4454-9D49-851D457B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EDB-ED52-4D1B-A783-0F4F8D4F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23E-1190-46DB-A938-C98F0FEE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FB6-1436-46C0-A839-A47466F1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2A92-7BE2-458F-9ED2-D4706E31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8A44-9146-4188-8A2A-F310D2E5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AE88-B0B2-49D8-981A-4F1594EF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91F2-99FA-422B-8BD9-CBE29EA5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2365-515B-4DA9-8E1E-2761396E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5BA2-D3A8-4D2F-9175-5F161D97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BC39-BB6A-4D48-89A8-BCE7CAC0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B94-FC91-445F-A034-B2C59C3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D3A7-D32E-4817-A02F-B006BA18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A53D-3499-4A2C-B43F-F386FC07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85BC-94AF-4285-89BB-4E26EB84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A8DC-7122-4935-B34B-9A8EE842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4080-EEB3-4D09-B1B5-05C1E64B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1D2-A6E3-4D47-A5F9-A610C554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743-FDFB-444B-BF3B-D79C2684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79E-AFE9-4941-AC3F-738582EE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DAC-6E88-4B04-ADDB-1B9ADA64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E7F-4C5B-4FA3-98FA-E54BFE6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320-C511-4D78-933B-2AE4519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BA6-C96A-4445-BED2-99133706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B96F-739D-46DC-8D4B-8844E66491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6AEE-F0E6-44A5-A608-319ABEEA89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REA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CEA INTERNAL ASSESS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1 Creating a Character 9005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 cred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imple Sent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imple sentences speed up the pace of a story and are generally used to create tension, imply action or get across an important poi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omplex Sent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ong or complex sentences often slow down the pace of a story. Complex sentences usually contain crucial detail or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haron screamed.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She jumped from the plane 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Comic Sans MS"/>
              </a:rPr>
              <a:t>and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began plummeting to the ground below waiting nervously for her parachute to open.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earth drew closer with each passing second. Tick. Tick. Tick. Sharon began to get nervous. Whooosh. Suddenly the parachute exploded from its case.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Relief washed over Sharon 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Comic Sans MS"/>
              </a:rPr>
              <a:t>as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 she glided to the landing strip ahea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omplete the exercises on your worksheet relating to the follow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anguage fe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e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entence 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Your Tas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his assessment you will develop a descriptive piece of writing in which you focus on a charact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t should be of at least 300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t can be based on either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‘real life’ per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ictional charac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mixture of both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xample a real life pers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ith fictional elements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The purpos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purpose of this piece of writing is to effectively convey your characters appearance, personality and attributes by “showing” rather than tel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on’t say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“her hair was brown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ay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“her hair was the colour of ripe chestnuts, flecked with shades of gold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How do I do th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most successful writers make use of language techniques to make their writing interesting and effec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Language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ere are some common language techniques you should use in your writing to make it interesting and descriptiv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xtended 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erson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motive Words            ( -/+ connota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What NOT to do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696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Rambling-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best way to avoid rambling is to write a plan before you start your piece of writ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pending too much time on the opening and not developing the en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verwriting – using too many language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tracting errors. Proofread carefully and ensure you spend time editing your draf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ixed tenses – (past/presen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For Example: Marie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up a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walked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to the bus. She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take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her bag from her shoulder a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dropping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it on the grou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igh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heavily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Repetition of simple words and using excess conjunctions –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For Example: and, but, th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Using Sentences Effectiv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nother way to ensure your writing is effective is to vary your use of sentence typ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impl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tains one is idea and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kes sense on its 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mple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de up of two or more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imple sentences joined by a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jun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Using Sentences Effectiv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Using a variety of sentence types makes writing much more interesting. Your choice of sentence can create tension, give detail or imply a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1:33:02Z</dcterms:created>
  <dc:creator>jgillaly</dc:creator>
  <dc:description/>
  <dc:language>en-US</dc:language>
  <cp:lastModifiedBy>jgillaly</cp:lastModifiedBy>
  <dcterms:modified xsi:type="dcterms:W3CDTF">2008-08-04T23:20:18Z</dcterms:modified>
  <cp:revision>3</cp:revision>
  <dc:subject/>
  <dc:title>CREATIVE WRITING</dc:title>
</cp:coreProperties>
</file>