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4BD-B7D1-4731-BCC8-E4AD04C1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5D3-153E-4540-9EC7-256269C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EF0-F771-45FA-A1BD-4FBFF4AA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0B1-B1A7-4964-9704-C341BB38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F1ED-991A-4110-991A-2A66BD15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9C3D-4683-4799-AE77-3D78EA89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B322-9F13-43EC-93F4-3872F98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8BF4-357A-4061-888A-26ABED67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023C-2EF1-4D29-9797-90EC6794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9F00-2232-45FF-BE5B-F6262C1C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1ECB-7AE5-4848-97AA-78CA619B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DE4-B7D3-4393-8A02-93693096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E71-72B0-4E41-B302-C0703CF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A80-489E-40BF-846C-4F1A57E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B53D-DC8D-4BC6-AEED-553BF85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4811-2612-412D-86DB-5A4FCDF7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47A-D28A-4F0F-93CD-8E6804A0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FBD-AC83-49FE-998B-82470284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B19-6869-47D0-B96F-BEBB4CFF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982-DE10-41F6-A2CA-002788BD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BCD-0B09-4CED-B1A7-6622E05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C43-D9B4-4CDC-A6AC-F90FB751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B5C-7FD3-4920-A48D-BC8B01D8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952-AED9-4967-97B3-D627AC5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EB7B-6284-403E-9112-790294650A3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BBEB-A947-41D8-BFC1-9AC171BFBE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REA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CEA INTERNAL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1 Creating a Character 9005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 cred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imple sentences speed up the pace of a story and are generally used to create tension, imply action or get across an important poi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omplex Sent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ong or complex sentences often slow down the pace of a story. Complex sentences usually contain crucial detail or inform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haron screamed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he jumped from the plane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nd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began plummeting to the ground below waiting nervously for her parachute to open.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earth drew closer with each passing second. Tick. Tick. Tick. Sharon began to get nervous. Whooosh. Suddenly the parachute exploded from its case.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Relief washed over Sharon 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Comic Sans MS"/>
              </a:rPr>
              <a:t>as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she glided to the landing strip ahea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mplete the exercises on your worksheet relating to the follow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anguage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entence 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Your Tas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his assessment you will develop a descriptive piece of writing in which you focus on a charact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should be of at least 300 wo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t can be based on either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‘real life’ per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ictional charac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mixture of both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xample a real life pers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ith fictional elements add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The purpose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purpose of this piece of writing is to effectively convey your characters appearance, personality and attributes by “showing” rather than tel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brow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ay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“her hair was the colour of ripe chestnuts, flecked with shades of gold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How do I do th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most successful writers make use of language techniques to make their writing interesting and effec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anguage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ere are some common language techniques you should use in your writing to make it interesting and descrip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im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xtended Metaph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motive Words            ( -/+ conno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NOT to d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696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ambling-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best way to avoid rambling is to write a plan before you start your piece of writ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pending too much time on the opening and not developing the e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verwriting – using too many language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tracting errors. Proofread carefully and ensure you spend time editing your draf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ixed tenses – (past/presen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Mari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up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walked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to the bus. She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take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r bag from her shoulder a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dropping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it on the ground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igh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heavily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epetition of simple words and using excess conjunctions –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For Example: and, but, th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other way to ensure your writing is effective is to vary your use of sentence typ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tains one is idea and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s sense on its 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mple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de up of two or more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 sentences joined by a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jun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sing Sentences Effectiv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Using a variety of sentence types makes writing much more interesting. Your choice of sentence can create tension, give detail or imply 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1:33:02Z</dcterms:created>
  <dc:creator>jgillaly</dc:creator>
  <dc:description/>
  <dc:language>en-US</dc:language>
  <cp:lastModifiedBy>jgillaly</cp:lastModifiedBy>
  <dcterms:modified xsi:type="dcterms:W3CDTF">2008-08-04T23:20:18Z</dcterms:modified>
  <cp:revision>3</cp:revision>
  <dc:subject/>
  <dc:title>CREATIVE WRITING</dc:title>
</cp:coreProperties>
</file>