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ABEC4-35D1-4520-8928-214F7601D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6474B-8716-44AA-A1D4-6691C0D6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1D9AD-8D34-4A8F-81EC-EF57E62F1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DAA37-B317-40FB-8114-16632107B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0E77D-8B92-4877-B781-F3666D02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D5B43-35E7-4D98-98B9-D9F54DC0B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B1EDE-1561-45CE-A6A2-5CC0C23B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5BA93-59E7-4141-A617-353A60912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AD556-A89A-4BC6-A9AA-51414207E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D051-DAD4-4DA0-A43D-1A4F4072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7548-1C1D-48C7-A052-AE1689B2B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262E-5668-4F3E-BBFD-75EC39C69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9D3F-7405-495F-A526-2208612934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Brief Plot Summary</a:t>
            </a:r>
            <a:endParaRPr b="0" lang="en-US" sz="4400" spc="-1" strike="noStrike">
              <a:solidFill>
                <a:srgbClr val="dfd293"/>
              </a:solidFill>
              <a:latin typeface="Arial"/>
            </a:endParaRPr>
          </a:p>
        </p:txBody>
      </p:sp>
      <p:sp>
        <p:nvSpPr>
          <p:cNvPr id="44"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is drama is one of the great tragedy themed plays by William Shakespeare. The themes of the play cover greed, betrayal, lust for power, arrogance. pride and cruelty. King Lear, an aging monarch, is a headstrong old man who is blind to his weaknesses (prid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 decides to divide his kingdom amongst his three daughters, according to which one recites the best declaration of lov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oneril and Regan are the selfish daughters of Lear who pretend to love him but later treat him cruelly. Cordelia is the loyal and unselfish daughter who refuses to tell her father how much she loves him as she feels it is insincer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ing Lear disowns Cordelia after confusing her honesty with insolence. This action acts as a catalyst for all events which follow.</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r then embarks on a journey of self discovery. The play ends with numerous characters facing death by various methods including poison and suicid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Hero</a:t>
            </a:r>
            <a:endParaRPr b="0" lang="en-US" sz="4400" spc="-1" strike="noStrike">
              <a:solidFill>
                <a:srgbClr val="dfd293"/>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Usually there is only one tragic he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experience extreme suffering and calam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befall a conspicuous pers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often have a fatal flaw in character which contributes to their own destruc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s tragic hero is, at some point torn by an inward struggle or confli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 play that ends with the hero alive, in the true sense is a Shakespearean traged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hakespeare’s tragic heroes will be men of rank. The hero falls unexpectedly from a high place, a place of glory, or honour, or jo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udience is left feeling a sense of woe and of p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is fate affects the welfare of the entire nation or empi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Pattern</a:t>
            </a:r>
            <a:endParaRPr b="0" lang="en-US" sz="4400" spc="-1" strike="noStrike">
              <a:solidFill>
                <a:srgbClr val="dfd293"/>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2057040"/>
                <a:gridCol w="2058480"/>
                <a:gridCol w="2057040"/>
                <a:gridCol w="2056680"/>
              </a:tblGrid>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 of High Est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law in Ch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usion of Time and a Sense of urgenc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readings and Rationaliza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der, Exile, Alienation of Enemies and All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l isolation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ization of the Oppos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gic Recognition of the flaw by the tragic Hero too la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courageous attempt to restore lost honor/greatn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ence recognizes potential for great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ation of ord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hakespearian Tragedy</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we will hear about the King, Prince or man of high estate from other people in the play before he makes an entrance in the play.</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when we are given insight into the greatness of the tragic hero through the eyes of others.</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first two Acts we are given an indication of his obsessive behaviour. The audience will also witness the inner torment he goes through in order to follow his obsession.</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sets up his own demise. The hero operates on what he believes to be the case rather than what he actually knows to be the cas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y are one in the same to him.</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is-readings continue, new complications and conflicts arise which bring about the death or gradual alienation of support for the hero.</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the end of the play the hero must face the opposing forces and responsibility of his actions alon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the process of alienation and isolation the character experiences rage, sleeplessness, confusion, hallucination and violen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the hero is confronted with an enemy in the final act  who usually has good reason to kill him.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by now has realized his error. This is known as Tragic Recogni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HISTORICAL CONTEXT</a:t>
            </a:r>
            <a:endParaRPr b="0" lang="en-US" sz="4400" spc="-1" strike="noStrike">
              <a:solidFill>
                <a:srgbClr val="dfd293"/>
              </a:solidFill>
              <a:latin typeface="Arial"/>
            </a:endParaRPr>
          </a:p>
        </p:txBody>
      </p:sp>
      <p:sp>
        <p:nvSpPr>
          <p:cNvPr id="52" name="PlaceHolder 2"/>
          <p:cNvSpPr>
            <a:spLocks noGrp="1"/>
          </p:cNvSpPr>
          <p:nvPr>
            <p:ph/>
          </p:nvPr>
        </p:nvSpPr>
        <p:spPr>
          <a:xfrm>
            <a:off x="395280" y="1196640"/>
            <a:ext cx="8229600" cy="5327640"/>
          </a:xfrm>
          <a:prstGeom prst="rect">
            <a:avLst/>
          </a:prstGeom>
          <a:solidFill>
            <a:srgbClr val="d3a219"/>
          </a:solidFill>
          <a:ln w="9360">
            <a:solidFill>
              <a:srgbClr val="d3a219"/>
            </a:solidFill>
            <a:miter/>
          </a:ln>
        </p:spPr>
        <p:txBody>
          <a:bodyPr lIns="90000" rIns="90000" tIns="46800" bIns="46800" anchor="t">
            <a:normAutofit fontScale="94000"/>
          </a:bodyPr>
          <a:p>
            <a:pPr marL="572760" indent="-5727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isten to the reading on historical context and answer the questions below:</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social climate was Shakespeare’s “King Lear” written in?</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events created this climate?</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Elizabeth I assumed the throne what were many people concerned about?</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y was it crucial for a country to have a strong leader?</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o tried to invade England in 1588?</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would have happened had England been divided?</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o you think people would have reacted to Lear’s decision to divide his kingdom? </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irst printed in 16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sed on a historical event – A court case where </a:t>
            </a:r>
            <a:r>
              <a:rPr b="0" lang="en-GB" sz="2400" spc="-1" strike="noStrike">
                <a:solidFill>
                  <a:srgbClr val="ffffff"/>
                </a:solidFill>
                <a:latin typeface="Arial"/>
              </a:rPr>
              <a:t>two daughters attempted to have their father declared insane so that they might seize his estate. The younger daughter, Cordell, obj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ccounts of King Lear surface in several texts; so, Shakespeare may have turned to other sources as well in exploring this ancient sto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ther Tex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ffrey of Monmouth’s </a:t>
            </a:r>
            <a:r>
              <a:rPr b="0" i="1" lang="en-GB" sz="2400" spc="-1" strike="noStrike">
                <a:solidFill>
                  <a:srgbClr val="ffffff"/>
                </a:solidFill>
                <a:latin typeface="Arial"/>
              </a:rPr>
              <a:t>Historia Regum Britanniae</a:t>
            </a:r>
            <a:r>
              <a:rPr b="0" lang="en-GB" sz="2400" spc="-1" strike="noStrike">
                <a:solidFill>
                  <a:srgbClr val="ffffff"/>
                </a:solidFill>
                <a:latin typeface="Arial"/>
              </a:rPr>
              <a:t>, published about 1135.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hael Holinshed’s 1577 book, </a:t>
            </a:r>
            <a:r>
              <a:rPr b="0" i="1" lang="en-GB" sz="2400" spc="-1" strike="noStrike">
                <a:solidFill>
                  <a:srgbClr val="ffffff"/>
                </a:solidFill>
                <a:latin typeface="Arial"/>
              </a:rPr>
              <a:t>Chronicles of Engla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ohn Higgens 1574 edition of </a:t>
            </a:r>
            <a:r>
              <a:rPr b="0" i="1" lang="en-GB" sz="2400" spc="-1" strike="noStrike">
                <a:solidFill>
                  <a:srgbClr val="ffffff"/>
                </a:solidFill>
                <a:latin typeface="Arial"/>
              </a:rPr>
              <a:t>Mirror for Magistrates</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dmund Spenser’s 1590 epic poem, </a:t>
            </a:r>
            <a:r>
              <a:rPr b="0" i="1" lang="en-GB" sz="2400" spc="-1" strike="noStrike">
                <a:solidFill>
                  <a:srgbClr val="ffffff"/>
                </a:solidFill>
                <a:latin typeface="Arial"/>
              </a:rPr>
              <a:t>The Faerie Queene</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r Philip Sidney’s 1590 poem, </a:t>
            </a:r>
            <a:r>
              <a:rPr b="0" i="1" lang="en-GB" sz="2400" spc="-1" strike="noStrike">
                <a:solidFill>
                  <a:srgbClr val="ffffff"/>
                </a:solidFill>
                <a:latin typeface="Arial"/>
              </a:rPr>
              <a:t>Arcadia</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True Chronicle of King Leir</a:t>
            </a:r>
            <a:r>
              <a:rPr b="0" lang="en-GB" sz="2400" spc="-1" strike="noStrike">
                <a:solidFill>
                  <a:srgbClr val="ffffff"/>
                </a:solidFill>
                <a:latin typeface="Arial"/>
              </a:rPr>
              <a:t> is first entered into the Stationers’s register in 1594</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s in King Lear</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p:nvPr/>
        </p:nvSpPr>
        <p:spPr>
          <a:xfrm>
            <a:off x="2987640" y="1847880"/>
            <a:ext cx="31687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ffffff"/>
                </a:solidFill>
                <a:latin typeface="Arial"/>
              </a:rPr>
              <a:t>King Lear</a:t>
            </a:r>
            <a:br>
              <a:rPr sz="2000"/>
            </a:br>
            <a:r>
              <a:rPr b="1" lang="en-GB" sz="2000" spc="-1" strike="noStrike">
                <a:solidFill>
                  <a:srgbClr val="ffffff"/>
                </a:solidFill>
                <a:latin typeface="Arial"/>
              </a:rPr>
              <a:t>Goneril</a:t>
            </a:r>
            <a:br>
              <a:rPr sz="2000"/>
            </a:br>
            <a:r>
              <a:rPr b="1" lang="en-GB" sz="2000" spc="-1" strike="noStrike">
                <a:solidFill>
                  <a:srgbClr val="ffffff"/>
                </a:solidFill>
                <a:latin typeface="Arial"/>
              </a:rPr>
              <a:t>Oswald</a:t>
            </a:r>
            <a:br>
              <a:rPr sz="2000"/>
            </a:br>
            <a:r>
              <a:rPr b="1" lang="en-GB" sz="2000" spc="-1" strike="noStrike">
                <a:solidFill>
                  <a:srgbClr val="ffffff"/>
                </a:solidFill>
                <a:latin typeface="Arial"/>
              </a:rPr>
              <a:t>Tom o' Bedlam</a:t>
            </a:r>
            <a:br>
              <a:rPr sz="2000"/>
            </a:br>
            <a:r>
              <a:rPr b="1" lang="en-GB" sz="2000" spc="-1" strike="noStrike">
                <a:solidFill>
                  <a:srgbClr val="ffffff"/>
                </a:solidFill>
                <a:latin typeface="Arial"/>
              </a:rPr>
              <a:t>Regan</a:t>
            </a:r>
            <a:br>
              <a:rPr sz="2000"/>
            </a:br>
            <a:r>
              <a:rPr b="1" lang="en-GB" sz="2000" spc="-1" strike="noStrike">
                <a:solidFill>
                  <a:srgbClr val="ffffff"/>
                </a:solidFill>
                <a:latin typeface="Arial"/>
              </a:rPr>
              <a:t>Cordelia</a:t>
            </a:r>
            <a:br>
              <a:rPr sz="2000"/>
            </a:br>
            <a:r>
              <a:rPr b="1" lang="en-GB" sz="2000" spc="-1" strike="noStrike">
                <a:solidFill>
                  <a:srgbClr val="ffffff"/>
                </a:solidFill>
                <a:latin typeface="Arial"/>
              </a:rPr>
              <a:t>Caius</a:t>
            </a:r>
            <a:br>
              <a:rPr sz="2000"/>
            </a:br>
            <a:r>
              <a:rPr b="1" lang="en-GB" sz="2000" spc="-1" strike="noStrike">
                <a:solidFill>
                  <a:srgbClr val="ffffff"/>
                </a:solidFill>
                <a:latin typeface="Arial"/>
              </a:rPr>
              <a:t>Curan</a:t>
            </a:r>
            <a:br>
              <a:rPr sz="2000"/>
            </a:br>
            <a:r>
              <a:rPr b="1" lang="en-GB" sz="2000" spc="-1" strike="noStrike">
                <a:solidFill>
                  <a:srgbClr val="ffffff"/>
                </a:solidFill>
                <a:latin typeface="Arial"/>
              </a:rPr>
              <a:t>Edmund</a:t>
            </a:r>
            <a:br>
              <a:rPr sz="2000"/>
            </a:br>
            <a:r>
              <a:rPr b="1" lang="en-GB" sz="2000" spc="-1" strike="noStrike">
                <a:solidFill>
                  <a:srgbClr val="ffffff"/>
                </a:solidFill>
                <a:latin typeface="Arial"/>
              </a:rPr>
              <a:t>Edg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0:47:50Z</dcterms:created>
  <dc:creator>jgillaly</dc:creator>
  <dc:description/>
  <dc:language>en-US</dc:language>
  <cp:lastModifiedBy>jgillaly</cp:lastModifiedBy>
  <dcterms:modified xsi:type="dcterms:W3CDTF">2009-05-25T23:04:27Z</dcterms:modified>
  <cp:revision>3</cp:revision>
  <dc:subject/>
  <dc:title>Slide 1</dc:title>
</cp:coreProperties>
</file>