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A9EE2-EB53-452D-84DF-FDFCC57F9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49F63-B233-4EF3-A34E-0AAEA6C94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ACF49-548C-425C-8858-81315EDEF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71524-AFD5-4404-98F1-BA1370913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5E15A-486D-4A4D-9B8D-7AB3E5B84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EC46B-575C-402C-8FE3-3D7E6A933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6BA2A-9FB9-48A8-AE74-8EDC6DF24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ADA98-97B4-4AEF-96F0-E3D1DE34C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7F80A-D9B7-4DD7-BBFD-5AEA90943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7A29F-4965-43E0-8F04-850CD5B91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1A134-B333-4B93-AC21-56ECC0F98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547D-2105-454D-A28E-0224E3A57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F61A-2A01-4DA2-BB17-38695846FA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King Lear’</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ole of the Fool</a:t>
            </a:r>
            <a:endParaRPr b="0" lang="en-US" sz="3200" spc="-1" strike="noStrike">
              <a:solidFill>
                <a:srgbClr val="ffffff"/>
              </a:solidFill>
              <a:latin typeface="Arial"/>
            </a:endParaRPr>
          </a:p>
        </p:txBody>
      </p:sp>
      <p:pic>
        <p:nvPicPr>
          <p:cNvPr id="43" name="" descr=""/>
          <p:cNvPicPr/>
          <p:nvPr/>
        </p:nvPicPr>
        <p:blipFill>
          <a:blip r:embed="rId1"/>
          <a:stretch/>
        </p:blipFill>
        <p:spPr>
          <a:xfrm>
            <a:off x="6012000" y="260280"/>
            <a:ext cx="2766960" cy="3141720"/>
          </a:xfrm>
          <a:prstGeom prst="rect">
            <a:avLst/>
          </a:prstGeom>
          <a:ln w="0">
            <a:noFill/>
          </a:ln>
        </p:spPr>
      </p:pic>
      <p:pic>
        <p:nvPicPr>
          <p:cNvPr id="44" name="a_fool" descr=""/>
          <p:cNvPicPr/>
          <p:nvPr/>
        </p:nvPicPr>
        <p:blipFill>
          <a:blip r:embed="rId2"/>
          <a:stretch/>
        </p:blipFill>
        <p:spPr>
          <a:xfrm>
            <a:off x="468360" y="2708280"/>
            <a:ext cx="2284200" cy="36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Traditional Role of the Fool</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cient times courts employed fools and by the Middle Ages the jester was a familiar figure. In Renaissance times, aristocratic households in Britain employed licensed fools or jesters, who sometimes dressed as other servants were dressed, but generally wore a motley (i.e. parti-coloured) coat, hood with ass's ears or a red-flannel coxcomb and bell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arded as pets or mascots, they served not simply to amuse but to criticise their master or mistress and their guests. Queen Elizabeth (reigned 1558-1603) is said to have rebuked one of her fools for being insufficiently severe with her. Excessive behaviour, however, could lead to a fool being whipped.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ol's status was one of privilege within a royal or noble household. His folly could be regarded as the raving of a madman but was often deemed to be perceptive truth. The fool exists outside normal social expectations and often defies rules or conven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Role of the Fool in ‘King Lear’</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hakespeare’s, King Lear, the Fool plays thre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role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er-conscience of Lear.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asic wisdom and reasoning, pointing out truths and flaws in Lear’s character.</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uses Lear at times of sadness in an effort to prevent or delay the onset of madn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Fool first appears in Act I scene iv. </a:t>
            </a:r>
            <a:br>
              <a:rPr sz="2000"/>
            </a:br>
            <a:r>
              <a:rPr b="0" lang="en-US" sz="2000" spc="-1" strike="noStrike">
                <a:solidFill>
                  <a:srgbClr val="ccffff"/>
                </a:solidFill>
                <a:latin typeface="Arial"/>
              </a:rPr>
              <a:t>How many times does Lear have to call for him before he come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Fool appears after Cordelia has been banished from the Kingdom. Lear calls for him numerous times “where’s my fool?” but he does not respond. Lear has to call him four times before he arrives on sce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ow long has the Fool been absent? </a:t>
            </a:r>
            <a:br>
              <a:rPr sz="2000"/>
            </a:br>
            <a:br>
              <a:rPr sz="2000"/>
            </a:br>
            <a:r>
              <a:rPr b="0" lang="en-US" sz="2000" spc="-1" strike="noStrike">
                <a:solidFill>
                  <a:srgbClr val="ccffff"/>
                </a:solidFill>
                <a:latin typeface="Arial"/>
              </a:rPr>
              <a:t>What reason is given for his absence and what does this reveal about     his character?</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ool has been absent for two days as he is in mourning for the banishment of Cordeli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act that he does not immediately appear at Lear’s request implies that unlike others in the Kingdom he is not ruled by or in fear of Lear’s power. He makes his own decision’s and is not afraid to tell Lear the truth of the sit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 lot of the Fool's intelligence is conveyed through his riddles and jokes.</a:t>
            </a:r>
            <a:endParaRPr b="0" lang="en-US" sz="2400" spc="-1" strike="noStrike">
              <a:solidFill>
                <a:srgbClr val="ccffff"/>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rowns</a:t>
            </a:r>
            <a:r>
              <a:rPr b="0" lang="en-N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uses</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if a man’s brain’s were in’s heels, were’t not in danger of kibes?...Thy wits shall not go slipsho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Thou hadst little wit in   thy bald crown when thou gavest the golden one awa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 can tell why a snail has a house..to put it’s head in; not to give it away to his daughters and leave his horns without a cas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hat is the Fool trying to show Lear in each of these situations? </a:t>
            </a:r>
            <a:br>
              <a:rPr sz="2000"/>
            </a:br>
            <a:r>
              <a:rPr b="0" lang="en-US" sz="2000" spc="-1" strike="noStrike">
                <a:solidFill>
                  <a:srgbClr val="ccffff"/>
                </a:solidFill>
                <a:latin typeface="Arial"/>
              </a:rPr>
              <a:t>Why do you think the Fool does not appear again after Act III?</a:t>
            </a:r>
            <a:endParaRPr b="0" lang="en-US" sz="20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ol uses these jokes and riddles to point out to Lear certain truths about people, as well as flaws in his very own actions. He is pretty much telling Lear what an idiot or ‘fool’ he has been in the guise of humou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ct 3 Lear descends into madness. One of the fool’s main purposes is to make Lear see reality. Once he has lost the ability to reason the fool no longer has a function or purpose. Lear later emerges from his madness and does realise the error of his ways – again the Fool no longer has any role to pla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Fool Summary’</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the fool, Lear would never have come to the realization of who people really were. The fool sustained Lear's sanity as long as he could in order to aid him to see the truth clearl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e had finished his role in the play he vanished. Since he vanished only after Lear had gained his insight, he must have been there to show Lear these thing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without the fool's influence Lear would probably have gone insane much earlier, which would have had a bad effect on the outcome of the story. The fool was the key factor in Lear's evolution as a charac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Something to Ponder….</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do you think both Lear and Cordelia had to die at the end of the play?</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uld their have been another endi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 the deaths of these characters restore order to the Kingdom somewh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3T22:35:58Z</dcterms:created>
  <dc:creator>jgillaly</dc:creator>
  <dc:description/>
  <dc:language>en-US</dc:language>
  <cp:lastModifiedBy>jgillaly</cp:lastModifiedBy>
  <dcterms:modified xsi:type="dcterms:W3CDTF">2008-07-03T23:30:19Z</dcterms:modified>
  <cp:revision>5</cp:revision>
  <dc:subject/>
  <dc:title>‘King Lear’</dc:title>
</cp:coreProperties>
</file>