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578FA-A313-433A-9394-3CA4A073B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7F93-2598-47AF-99A6-B6F9CB4B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D23D3-294C-4EE8-9BAD-87697410C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6310B-0018-45B4-AF96-BC0A0747A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8DA17-E9A2-4518-8B18-DC86ACA39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0E2C4-11E0-406B-9B14-82E2E865D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4B074-1CC2-40AE-8516-0BEF215B7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C1F60-171B-4765-8500-18C17E36D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B67C1-D1AF-4D19-BF5E-77A6AEE4C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09F39-DBD8-4FAD-B562-22B01F709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967D1-22AE-4C2E-A558-EDD60A43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D476-4492-4739-A8BF-41B26D20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3C0A4-18FF-451D-821F-7CB94F530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29E3-A195-4CDD-B4BC-61D74FEC6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64A5A-A4A9-4001-BE48-2D006E0BC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8640B-EEC9-41D9-8AD0-935A9FB35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EED51-3F3A-4D2E-944D-97456BA30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EE35-7AF1-4B34-97C9-A2BC3407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B57E-4260-492A-951A-32E2AAE1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61D8-860B-48BA-A4B2-ECE76DAA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5013-227E-4C7D-964B-593940D28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2958-3DB1-4AED-BA87-F09081B91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4EC8-D123-4469-88B5-A1DBED0E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8F40-F73D-4F33-807A-A39791E6B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0299-4FEB-4611-8036-185177C4630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51A7-086F-4825-AC2D-F98EE330640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ff0066"/>
                </a:solidFill>
                <a:latin typeface="Times New Roman"/>
              </a:rPr>
              <a:t>Short Story Revision</a:t>
            </a:r>
            <a:endParaRPr b="0" lang="en-US" sz="62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t>
            </a:r>
            <a:r>
              <a:rPr b="0" lang="en-NZ" sz="3000" spc="-1" strike="noStrike">
                <a:solidFill>
                  <a:srgbClr val="ffffff"/>
                </a:solidFill>
                <a:latin typeface="Arial"/>
              </a:rPr>
              <a:t>The Outsider’</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raeme Lay</a:t>
            </a:r>
            <a:endParaRPr b="0" lang="en-US" sz="3000" spc="-1" strike="noStrike">
              <a:solidFill>
                <a:srgbClr val="ffffff"/>
              </a:solidFill>
              <a:latin typeface="Arial"/>
            </a:endParaRPr>
          </a:p>
        </p:txBody>
      </p:sp>
      <p:pic>
        <p:nvPicPr>
          <p:cNvPr id="92" name="" descr="sufer.jpg"/>
          <p:cNvPicPr/>
          <p:nvPr/>
        </p:nvPicPr>
        <p:blipFill>
          <a:blip r:embed="rId1"/>
          <a:stretch/>
        </p:blipFill>
        <p:spPr>
          <a:xfrm>
            <a:off x="5867280" y="3860640"/>
            <a:ext cx="2563920" cy="1695600"/>
          </a:xfrm>
          <a:prstGeom prst="rect">
            <a:avLst/>
          </a:prstGeom>
          <a:ln w="0">
            <a:noFill/>
          </a:ln>
        </p:spPr>
      </p:pic>
      <p:pic>
        <p:nvPicPr>
          <p:cNvPr id="93" name="" descr="26_music-brookefraser.jpg"/>
          <p:cNvPicPr/>
          <p:nvPr/>
        </p:nvPicPr>
        <p:blipFill>
          <a:blip r:embed="rId2"/>
          <a:stretch/>
        </p:blipFill>
        <p:spPr>
          <a:xfrm>
            <a:off x="684360" y="765000"/>
            <a:ext cx="1950840" cy="22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Context – General Plot</a:t>
            </a:r>
            <a:endParaRPr b="0" lang="en-US" sz="44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Use the following words to write a </a:t>
            </a:r>
            <a:r>
              <a:rPr b="1" lang="en-NZ" sz="2200" spc="-1" strike="noStrike" u="sng">
                <a:solidFill>
                  <a:srgbClr val="ffffff"/>
                </a:solidFill>
                <a:uFillTx/>
                <a:latin typeface="Arial"/>
              </a:rPr>
              <a:t>2-3 line </a:t>
            </a:r>
            <a:r>
              <a:rPr b="0" lang="en-NZ" sz="2200" spc="-1" strike="noStrike">
                <a:solidFill>
                  <a:srgbClr val="ffffff"/>
                </a:solidFill>
                <a:latin typeface="Arial"/>
              </a:rPr>
              <a:t>summary of ‘The Outsider’ plo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a:t>
            </a:r>
            <a:r>
              <a:rPr b="0" lang="en-NZ" sz="2200" spc="-1" strike="noStrike">
                <a:solidFill>
                  <a:srgbClr val="ffffff"/>
                </a:solidFill>
                <a:latin typeface="Arial"/>
              </a:rPr>
              <a:t>The Outsider’ is abou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Karl Sikowsky</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merican touris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Kaimar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Surfing</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Justine</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ve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Pregnant</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bandoned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fraid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Tied down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Obsess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ca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Bach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Desert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NZ</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a:t>
            </a:r>
            <a:r>
              <a:rPr b="0" lang="en-NZ" sz="4400" spc="-1" strike="noStrike">
                <a:solidFill>
                  <a:srgbClr val="ff0066"/>
                </a:solidFill>
                <a:latin typeface="Times New Roman"/>
              </a:rPr>
              <a:t>The Outsider’ is about…</a:t>
            </a:r>
            <a:endParaRPr b="0" lang="en-US" sz="44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arl Sikowsy, an American tourist who arrives in Kaimara to surf. Justine, a young local girl falls in love with him and becomes pregnant. Karl abandons her and leaves Kaimara as he is afraid of being tied down and obsessed with surfing. Justine returns to Karl’s bach to find it desert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Important Details:</a:t>
            </a:r>
            <a:endParaRPr b="0" lang="en-US" sz="4400" spc="-1" strike="noStrike">
              <a:solidFill>
                <a:srgbClr val="ccecff"/>
              </a:solidFill>
              <a:latin typeface="Times New Roman"/>
            </a:endParaRPr>
          </a:p>
        </p:txBody>
      </p:sp>
      <p:sp>
        <p:nvSpPr>
          <p:cNvPr id="99" name="PlaceHolder 2"/>
          <p:cNvSpPr>
            <a:spLocks noGrp="1"/>
          </p:cNvSpPr>
          <p:nvPr>
            <p:ph/>
          </p:nvPr>
        </p:nvSpPr>
        <p:spPr>
          <a:xfrm>
            <a:off x="250560" y="1773000"/>
            <a:ext cx="8713800" cy="43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ain character:</a:t>
            </a:r>
            <a:r>
              <a:rPr b="0" lang="en-NZ" sz="2400" spc="-1" strike="noStrike">
                <a:solidFill>
                  <a:srgbClr val="ffffff"/>
                </a:solidFill>
                <a:latin typeface="Arial"/>
              </a:rPr>
              <a:t> Karl Sikowsky and Just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inor Characters:</a:t>
            </a:r>
            <a:r>
              <a:rPr b="0" lang="en-NZ" sz="2400" spc="-1" strike="noStrike">
                <a:solidFill>
                  <a:srgbClr val="ffffff"/>
                </a:solidFill>
                <a:latin typeface="Arial"/>
              </a:rPr>
              <a:t> The townspeo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Narration:</a:t>
            </a:r>
            <a:r>
              <a:rPr b="0" lang="en-NZ" sz="2400" spc="-1" strike="noStrike">
                <a:solidFill>
                  <a:srgbClr val="ffffff"/>
                </a:solidFill>
                <a:latin typeface="Arial"/>
              </a:rPr>
              <a:t> Omniscien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Relationship:</a:t>
            </a:r>
            <a:r>
              <a:rPr b="0" lang="en-NZ" sz="2400" spc="-1" strike="noStrike">
                <a:solidFill>
                  <a:srgbClr val="ffffff"/>
                </a:solidFill>
                <a:latin typeface="Arial"/>
              </a:rPr>
              <a:t> Karl Sikowsky and Justine</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heme:</a:t>
            </a:r>
            <a:r>
              <a:rPr b="0" lang="en-NZ" sz="2400" spc="-1" strike="noStrike">
                <a:solidFill>
                  <a:srgbClr val="ffffff"/>
                </a:solidFill>
                <a:latin typeface="Arial"/>
              </a:rPr>
              <a:t> Destructive nature of obsess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Setting:</a:t>
            </a:r>
            <a:r>
              <a:rPr b="0" lang="en-NZ" sz="2400" spc="-1" strike="noStrike">
                <a:solidFill>
                  <a:srgbClr val="ffffff"/>
                </a:solidFill>
                <a:latin typeface="Arial"/>
              </a:rPr>
              <a:t> NZ, Kaimara be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moment / Twist: </a:t>
            </a:r>
            <a:r>
              <a:rPr b="0" lang="en-NZ" sz="2400" spc="-1" strike="noStrike">
                <a:solidFill>
                  <a:srgbClr val="ffffff"/>
                </a:solidFill>
                <a:latin typeface="Arial"/>
              </a:rPr>
              <a:t>When Justine returns to the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bach to find Karl has abandoned her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 she is left pregnant and alo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echniques: </a:t>
            </a:r>
            <a:r>
              <a:rPr b="0" lang="en-NZ" sz="2400" spc="-1" strike="noStrike">
                <a:solidFill>
                  <a:srgbClr val="ffffff"/>
                </a:solidFill>
                <a:latin typeface="Arial"/>
              </a:rPr>
              <a:t>Symbolism, Dialogue, Metaphor, Setting, Contr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Key Quote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was deserted…not a soul in sight”</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town concentrated its passions on the rugby…but he showed not the slightest interest.”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for him riding the waves was not a sport, it was a life force”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he might leave and that thought was unbearable to her”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and the little house became their entire world”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all the photos had been taken from the walls, all except one of two people walking on the beach.”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3:51:34Z</dcterms:created>
  <dc:creator>jgillaly</dc:creator>
  <dc:description/>
  <dc:language>en-US</dc:language>
  <cp:lastModifiedBy>jgillaly</cp:lastModifiedBy>
  <dcterms:modified xsi:type="dcterms:W3CDTF">2008-10-17T00:52:02Z</dcterms:modified>
  <cp:revision>1</cp:revision>
  <dc:subject/>
  <dc:title>Short Story Revision</dc:title>
</cp:coreProperties>
</file>